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91DA-2884-47DA-829B-307F8FE54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2DA2-17B3-4573-A7D1-9F3F3EA3E96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BBB-AAEB-457C-819C-669FE17E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BBC-670B-4F44-8854-F0E41DFB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10F-2AB7-4587-8AC7-981508C3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C6D-189C-4F29-94A3-81852372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89EF-82D2-4DF6-A0BD-4F5CA46E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5802-2384-449F-A148-8B6B006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0A8B-9415-45B4-914A-9775B55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E140-17E3-43EB-97EE-5B4BC20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3D61-D211-41DE-858F-B0D9549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3034-9327-4BBE-BF57-11533584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425B-95E9-4B26-9C88-8B5334B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E8C-678C-4458-940E-60806397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B91A-F060-4261-BC69-267B69BD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78BF-4A43-4CBD-81E8-6492FE6A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F25B-CC0E-4D4A-901B-473B7AE6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CF0C-11CD-45F4-9473-26E98036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27EF-42E0-4667-9459-CE601A8B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3A2-F36C-4B0B-A5CB-8DBAF3D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A19-83B5-402F-8900-6FFB22D2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309-D8E4-4166-BF5A-D6C312DD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49F-F04A-4BDB-A1AD-6C865A33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D5D-C8FB-4824-AECD-FDDB6FC5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7A5-8F45-4F6A-8E07-A191090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49C-C85F-4B54-B32E-7C5D321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1A76-DB40-42BA-93F8-A1772D6013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437C-EDAA-4104-A636-A63375FDD3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99640" y="15566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姚仁祿老師「設計邊境」課程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觀後感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文化大學碩士學分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課程：「教學設計與多媒體應用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指導老師：鄒景平老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學員：謝毓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4640" y="1169640"/>
            <a:ext cx="81403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重新定義產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e definite everything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帶領我們去思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常再熟悉不過的事務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可以再求創新及改變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所有的設計都是從『人性』始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而孕育產生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『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價值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』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影響著我們如何去思考執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並求更新變革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人類生活的環境可以變得更美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設計需用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不可否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專利商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『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以拙劣的設計物和構造物來汙染地球的行為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應立即停止了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引用自加拿大工業設計家彼庫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‧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巴巴雷特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</a:rPr>
              <a:t>設計概論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一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755640" y="83664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「設計是什麼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」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主要啟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人心思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需從日常生活中去觀察省思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改善的事物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重點是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設計需先依賴知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但卻不受限於既有的知識地圖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得拋開地圖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設計之物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不會淪於舊有的模仿或複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例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電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＞筆記型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網路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http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－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行動裝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＞智慧型手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「設計是什麼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」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應用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000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世紀的頭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無法解決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世紀的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二、重新定義你熟悉的事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三、重新定義產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四、「設計需用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而非用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Theo Jansen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作品影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五、課後提問及交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學生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「『設計』是解決問題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「 讓現況靠近期望的能力」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66"/>
                </a:solidFill>
                <a:latin typeface="Arial"/>
              </a:rPr>
              <a:t>「設計是什麼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1" lang="zh-TW" sz="4000" spc="-1" strike="noStrike">
                <a:solidFill>
                  <a:srgbClr val="006666"/>
                </a:solidFill>
                <a:latin typeface="Arial"/>
              </a:rPr>
              <a:t>」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zh-TW" sz="4000" spc="-1" strike="noStrike">
                <a:solidFill>
                  <a:srgbClr val="006666"/>
                </a:solidFill>
                <a:latin typeface="Arial"/>
              </a:rPr>
              <a:t>內容架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87560" y="1457640"/>
            <a:ext cx="7751520" cy="61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世紀的頭腦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法解決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世紀的問題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4" descr="設計邊境_1"/>
          <p:cNvPicPr/>
          <p:nvPr/>
        </p:nvPicPr>
        <p:blipFill>
          <a:blip r:embed="rId1"/>
          <a:stretch/>
        </p:blipFill>
        <p:spPr>
          <a:xfrm>
            <a:off x="755640" y="2276640"/>
            <a:ext cx="838836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16000" y="1125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重新定義你熟悉的事務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8" descr="設計邊境_2_0_0"/>
          <p:cNvPicPr/>
          <p:nvPr/>
        </p:nvPicPr>
        <p:blipFill>
          <a:blip r:embed="rId1"/>
          <a:stretch/>
        </p:blipFill>
        <p:spPr>
          <a:xfrm>
            <a:off x="755640" y="2381400"/>
            <a:ext cx="8207280" cy="44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設計邊境_2_0_0"/>
          <p:cNvPicPr/>
          <p:nvPr/>
        </p:nvPicPr>
        <p:blipFill>
          <a:blip r:embed="rId2"/>
          <a:stretch/>
        </p:blipFill>
        <p:spPr>
          <a:xfrm>
            <a:off x="755640" y="2205000"/>
            <a:ext cx="8388360" cy="447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31920" y="1241640"/>
            <a:ext cx="8140320" cy="61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關鍵在用心，而非用腦</a:t>
            </a:r>
            <a:br>
              <a:rPr sz="2400"/>
            </a:b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</a:t>
            </a:r>
            <a:br>
              <a:rPr sz="2400"/>
            </a:b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花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年來挑戰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規零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4" descr="artist's creater "/>
          <p:cNvPicPr/>
          <p:nvPr/>
        </p:nvPicPr>
        <p:blipFill>
          <a:blip r:embed="rId1"/>
          <a:stretch/>
        </p:blipFill>
        <p:spPr>
          <a:xfrm>
            <a:off x="717480" y="2247840"/>
            <a:ext cx="8426520" cy="4610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63720" y="885600"/>
            <a:ext cx="81309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作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4" descr="artist's creater 2 "/>
          <p:cNvPicPr/>
          <p:nvPr/>
        </p:nvPicPr>
        <p:blipFill>
          <a:blip r:embed="rId1"/>
          <a:stretch/>
        </p:blipFill>
        <p:spPr>
          <a:xfrm>
            <a:off x="611280" y="2276640"/>
            <a:ext cx="871524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63720" y="956880"/>
            <a:ext cx="81309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作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artist's creater 3 "/>
          <p:cNvPicPr/>
          <p:nvPr/>
        </p:nvPicPr>
        <p:blipFill>
          <a:blip r:embed="rId1"/>
          <a:stretch/>
        </p:blipFill>
        <p:spPr>
          <a:xfrm>
            <a:off x="755640" y="2276640"/>
            <a:ext cx="838836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63720" y="956880"/>
            <a:ext cx="81309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作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4" descr="artist's creater 4 "/>
          <p:cNvPicPr/>
          <p:nvPr/>
        </p:nvPicPr>
        <p:blipFill>
          <a:blip r:embed="rId1"/>
          <a:stretch/>
        </p:blipFill>
        <p:spPr>
          <a:xfrm>
            <a:off x="684360" y="2205000"/>
            <a:ext cx="8459640" cy="465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63720" y="885600"/>
            <a:ext cx="81309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作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artist's creater 5 "/>
          <p:cNvPicPr/>
          <p:nvPr/>
        </p:nvPicPr>
        <p:blipFill>
          <a:blip r:embed="rId1"/>
          <a:stretch/>
        </p:blipFill>
        <p:spPr>
          <a:xfrm>
            <a:off x="684360" y="2276640"/>
            <a:ext cx="845964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5:20:34Z</dcterms:created>
  <dc:creator>user</dc:creator>
  <dc:description/>
  <dc:language>en-US</dc:language>
  <cp:lastModifiedBy>user</cp:lastModifiedBy>
  <dcterms:modified xsi:type="dcterms:W3CDTF">2010-10-23T04:31:41Z</dcterms:modified>
  <cp:revision>48</cp:revision>
  <dc:subject/>
  <dc:title>姚仁祿老師「設計邊境」課程觀後感</dc:title>
</cp:coreProperties>
</file>